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B615-38A7-4E89-85D1-EADD18C3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13C2-B94B-47E5-9395-8B0F909C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738B-E5C4-4170-997B-9F639FDB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B434-E65C-4173-BCDE-BA4218AF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E3B4-4CA3-478F-89B7-98573CC2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241B-3FFD-435E-AD3A-F64D078F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5E50-D16D-4762-9FAE-BD134FAE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7EE8-446D-45D6-8180-CAE752B6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CC01-4351-4700-8C15-D0FAE302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A8F9-90A1-414C-B6AC-9EB83323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E7A2-F25C-4E5B-9868-0C3A5408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9D04-FE04-4FC0-BF0E-9B3F6476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329F-4D9C-405F-94F6-A6615541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9638-1FF7-43AA-B3C0-EEFE61C7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FCEA-AFF2-4205-9603-DA01B441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04F2-FFEA-4E46-97E3-12D50393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34A0-08BD-4C8F-A1CA-453A1739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605D1-7AD5-40C7-B3DA-F9DBA8ED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0D4E9-5A0C-42FF-8715-BCEA849A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9E84D-720E-4A1E-9355-3D3618C8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507E2-B608-4975-A4CC-85267BE5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EB8DE-96C8-4B1F-8310-0A012DBA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42B1-04A4-4F03-89A6-A9DE7FC7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41757-7C75-453A-88B6-E3EBD390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FF329-CBE1-4737-AE7B-D7E2E2A0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24C15-2D1B-4F31-A0CC-1D8D4772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218B1-D140-41B2-861B-32BD09EE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3AE61-54AD-48FE-9BF6-79A74523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77CAC-397F-4E7E-9F80-B2888277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18425-7264-473D-9FC0-E7E2F415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43BC3-A058-47C3-9216-9246C4A0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FBE62-1207-4968-AD4A-EEED9990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1239A-843E-4D9E-B63B-3C91B236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520D-ECE7-4636-A0DA-F13CED07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792F9-9E46-4DC9-A35C-59CD1989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DB4E6-3B5D-4013-83CD-0F9A2B42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4FD1A-150F-4537-9008-867BA516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58E09-77F0-4106-BC9C-6F18B188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36BED-F164-4FEC-B7D1-D414FF99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9B8E6-0B72-4DF8-B852-4B86BB26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7B5A9-2070-452D-B8CC-26079A27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CE6F3-05FA-4975-8433-90759CF6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633D6-CDF5-47F0-B78B-B4F9E9CD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F0237-B5FF-4DC2-A74E-36839FD2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DB1E-ADD6-4337-BBF2-1D52C39D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2505A-167D-4146-897A-16B0C4FF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B6CA2-7A5B-42BF-A9FC-61332B7D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0FFBD-E10B-420E-91D8-2B213603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992C6-8E1E-414A-9BFA-548ED60A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32489-51F8-443C-BE03-12338D9E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A26F9-72C8-4545-AB08-1BC3E406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C815E-19A8-4B13-B24D-FB9685C9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EFB46-1E45-45D7-A258-149CCCD1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B69B0-2346-4BE0-BFC9-4FACA8E7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FD52D-F171-4886-9C74-41FC6325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896-EC4A-4387-8CD5-8CBE61E9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4F1C7-BC41-4A79-A158-2E595EB7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69DCF-8116-4530-B5FA-666E6537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EC4D4-EDFA-4E6F-8E95-0D93681A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FD824-C2C0-400A-AF2A-AC196C5B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A3522-B759-47D0-A06B-0F8C5FB9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B7372-15E7-4161-BDF1-D3CD376A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F9157-45BD-4E7C-8818-5E599EC0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274AC-D613-404D-89F9-29E31B7F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968C4-7481-4E88-B92F-93376A97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970D7-5302-4FBE-A1C7-FD24DE85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0A61-53CE-4A48-B867-A68C5897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09B58-A6F4-4058-A2B3-F37A23AD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63A61-2505-450D-82D1-AAE58F5F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1721A-7B4C-4F5C-8A06-D414CCAC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628C-CCFB-43E4-9E2E-8CEBDE38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0431-E9DE-4040-94E7-F476EA10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E0E5-42AC-4A49-A0DA-9D09C342222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3087-961F-46D0-A8FA-1F2358F994D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CD85-1E21-4F56-B472-69F70B68D1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7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7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9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5A0B-74BA-44DA-91CB-66460921735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6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D8E4-36D5-454F-9DAF-FA74F8ABD1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DADF-2794-47A9-9D7F-020366069E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00720" y="188640"/>
            <a:ext cx="2843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b7"/>
                </a:solidFill>
                <a:latin typeface="Arial"/>
              </a:rPr>
              <a:t>ЗДОРОВЬЕ ЧЕЛОВЕКА</a:t>
            </a:r>
            <a:br>
              <a:rPr sz="1200"/>
            </a:br>
            <a:r>
              <a:rPr b="0" i="1" lang="en-US" sz="1200" spc="-1" strike="noStrike">
                <a:solidFill>
                  <a:srgbClr val="ffffb7"/>
                </a:solidFill>
                <a:latin typeface="Arial"/>
              </a:rPr>
              <a:t>слайд1</a:t>
            </a:r>
            <a:br>
              <a:rPr sz="4000"/>
            </a:br>
            <a:br>
              <a:rPr sz="1200"/>
            </a:br>
            <a:endParaRPr b="1" lang="en-US" sz="1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68280" y="2997000"/>
            <a:ext cx="7446960" cy="1198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ЗДОРОВЬЕ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914400" y="2204640"/>
            <a:ext cx="8229600" cy="5763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-1782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b7"/>
                </a:solidFill>
                <a:latin typeface="Arial"/>
              </a:rPr>
              <a:t>ФАКТОРЫ, РАЗРУШАЮЩИЕ </a:t>
            </a:r>
            <a:br>
              <a:rPr sz="2600"/>
            </a:br>
            <a:br>
              <a:rPr sz="17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03640" y="5805360"/>
            <a:ext cx="57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Работу выполнила: учитель биологии и хим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МАОУ «Средняя общеобразовательная шко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п. Большая Вишера» Мохова Ирина Стефанов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642520" cy="7923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Действие наркотиков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68360" y="1125360"/>
            <a:ext cx="4038480" cy="345600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Tahoma"/>
              </a:rPr>
              <a:t>На физическое состояние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Общее истощ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ннее поседение и полыс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зрушение зуб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сстройство работы внутренних органов, прежде всего сердца и легки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Формирование слабоумия и общая деградация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Нарушение походки и координации движений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642920" y="1125360"/>
            <a:ext cx="4038840" cy="3456000"/>
          </a:xfrm>
          <a:prstGeom prst="rect">
            <a:avLst/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Tahoma"/>
              </a:rPr>
              <a:t>На психическую деятельность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езко сужается круг интере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Падает морально – этический урове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Мышление теряет логическую связь, появляются элементы бре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звиваются рассеянность, забывчивость, переходящие в глубокую потерю памя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Грубость, злобность, необузданность, жесток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8360" y="4653000"/>
            <a:ext cx="8229600" cy="2016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Самый надежный способ профилактики наркомании – решительный отказ от первого приема наркотик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Несанкционированная продажа, распространение и хранение препаратов, содержащих наркотические вещества, преследуется по закон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09308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440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Garamond"/>
              </a:rPr>
              <a:t>3. Табакокурение</a:t>
            </a:r>
            <a:br>
              <a:rPr sz="2000"/>
            </a:b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Табакокурение – наиболее распространенная вредная привычка, отрицательно влияющая на здоровье курильщика и окружающих людей.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468360" y="2060640"/>
          <a:ext cx="8229600" cy="4608000"/>
        </p:xfrm>
        <a:graphic>
          <a:graphicData uri="http://schemas.openxmlformats.org/drawingml/2006/table">
            <a:tbl>
              <a:tblPr/>
              <a:tblGrid>
                <a:gridCol w="2232000"/>
                <a:gridCol w="599760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нач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курит от случая к случаю не более 2 – 5 сигарет в день; привыкание к табаку отсутству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испытывает нестойкое влечение к табаку, выкуривает 5 – 10 сигарет в сутки, может бросить курить самостоятель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ернут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выкуривает 15 – 20 сигарет в сутки, у него формируется физическая зависимость, при попытке бросить курить у него развивается тяжелое физическое и психическое состоя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9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выкуривает 40 – 50 сигарет в сутки, часто натощак и среди ночи; ощущает непреодолимое влечение к табак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едки необратимые изменения в нервной системе, внутренних органах и кровеносных сосуд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</a:tbl>
          </a:graphicData>
        </a:graphic>
      </p:graphicFrame>
      <p:sp>
        <p:nvSpPr>
          <p:cNvPr id="605" name=""/>
          <p:cNvSpPr/>
          <p:nvPr/>
        </p:nvSpPr>
        <p:spPr>
          <a:xfrm>
            <a:off x="7236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50920" y="1628640"/>
            <a:ext cx="8713800" cy="936720"/>
          </a:xfrm>
          <a:prstGeom prst="downArrowCallout">
            <a:avLst>
              <a:gd name="adj1" fmla="val -180115"/>
              <a:gd name="adj2" fmla="val 232561"/>
              <a:gd name="adj3" fmla="val 16667"/>
              <a:gd name="adj4" fmla="val 66667"/>
            </a:avLst>
          </a:prstGeom>
          <a:solidFill>
            <a:srgbClr val="cc9900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969696"/>
          </a:solidFill>
          <a:ln w="9360">
            <a:solidFill>
              <a:srgbClr val="cc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Наиболее опасные для организма человека </a:t>
            </a:r>
            <a:br>
              <a:rPr sz="2400"/>
            </a:b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компоненты табачного дыма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353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икотин – один из самых опасных ядов, по ядовитости равен синильной кисл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50920" y="4508640"/>
            <a:ext cx="8637480" cy="865080"/>
          </a:xfrm>
          <a:prstGeom prst="upArrowCallout">
            <a:avLst>
              <a:gd name="adj1" fmla="val -197237"/>
              <a:gd name="adj2" fmla="val 249615"/>
              <a:gd name="adj3" fmla="val 16667"/>
              <a:gd name="adj4" fmla="val 666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ышьяк   - сильный канцероген, способствует развитию рака ко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435640" y="2565360"/>
            <a:ext cx="3240000" cy="936720"/>
          </a:xfrm>
          <a:prstGeom prst="leftArrow">
            <a:avLst>
              <a:gd name="adj1" fmla="val 50000"/>
              <a:gd name="adj2" fmla="val 86472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ммиак – разрушает слизист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олочку р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24000" y="2565360"/>
            <a:ext cx="3600360" cy="936720"/>
          </a:xfrm>
          <a:prstGeom prst="rightArrow">
            <a:avLst>
              <a:gd name="adj1" fmla="val 50000"/>
              <a:gd name="adj2" fmla="val 9609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инильная кислота –сильнейший яд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локирует клеточное дых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4000" y="3645000"/>
            <a:ext cx="3600360" cy="917640"/>
          </a:xfrm>
          <a:prstGeom prst="rightArrow">
            <a:avLst>
              <a:gd name="adj1" fmla="val 50000"/>
              <a:gd name="adj2" fmla="val 9808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бачный деготь – способству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витию злокачественных опухо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435640" y="3645000"/>
            <a:ext cx="3313080" cy="936360"/>
          </a:xfrm>
          <a:prstGeom prst="leftArrow">
            <a:avLst>
              <a:gd name="adj1" fmla="val 50000"/>
              <a:gd name="adj2" fmla="val 8845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гар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а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зко уменьш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держание кислорода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3957480" y="2943360"/>
            <a:ext cx="1229040" cy="9712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0" y="5445000"/>
            <a:ext cx="1068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Наиболее эффективный способ профилактики табакоку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олный и категорический отказ от таба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236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4. Болезни, передаваемые половым путем.</a:t>
            </a:r>
            <a:br>
              <a:rPr sz="2400"/>
            </a:b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Болезни, передаваемые половым путем – это инфекционные заболевания, объединенные в одну группу по преимущественному способу заражения.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395280" y="1197000"/>
          <a:ext cx="8229600" cy="5583240"/>
        </p:xfrm>
        <a:graphic>
          <a:graphicData uri="http://schemas.openxmlformats.org/drawingml/2006/table">
            <a:tbl>
              <a:tblPr/>
              <a:tblGrid>
                <a:gridCol w="1882800"/>
                <a:gridCol w="2376360"/>
                <a:gridCol w="2232000"/>
                <a:gridCol w="17384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звание и инкубационный 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словия передачи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мпто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озможные послед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норе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– 5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мужчин : жар, жжение, выдел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женщин: выделение, зуд. 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мптомы быстро проходя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есплодие, поражение сердца и сустав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фи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– 4 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пасности подвергаются члены семь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явление безболезненной язвы, увеличение лимфатических узлов, появление сып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азвитие паралича, слабоумие, рождение детей с пороками развит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Трихомони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 – 15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т больной матери к новорожденном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мужчин: бессимптомн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женщин: Выделение, зуд, жже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оспаление внутренних половых органов, бесплод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рп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ходится в организме бессимптом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оли внизу живота и в паху. Покраснение, появление пузырьк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вторения и рецидив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андид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ходится в организме бессимптом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Зуд, жжение, болезненность половых органов, выделения (у женщин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Длительное течение. Повторные обостр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620" name=""/>
          <p:cNvSpPr/>
          <p:nvPr/>
        </p:nvSpPr>
        <p:spPr>
          <a:xfrm>
            <a:off x="709308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95280" y="620280"/>
            <a:ext cx="4038480" cy="2592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Меры профил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Соблюдение правил личной гигиен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Отказ от случайных половых связ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Безопасное сексуальное повед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Немедленное обращ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 в первые 2 часа) в кожно – венерологический диспанс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0" y="620640"/>
            <a:ext cx="4038480" cy="2664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Запомн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После болезней передающихся половым путем не возникает иммунитета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324000" y="3573360"/>
            <a:ext cx="8229600" cy="244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Заражение заболеваниями, передаваемыми половым путем, других лиц согласно кодексу РФ является уголовным преступлением и наказывается штрафом или лишением свободы на срок до двух л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404280"/>
            <a:ext cx="8540640" cy="129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00000"/>
              </a:lnSpc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АЛКОГОЛИЗМ</a:t>
            </a:r>
            <a:br>
              <a:rPr sz="23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Алкоголизм – хроническое заболевание, обусловленное систематическим, частым и неумеренным употреблением спиртных напитков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931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en-US" sz="2200" spc="-1" strike="noStrike">
                <a:solidFill>
                  <a:srgbClr val="ff9900"/>
                </a:solidFill>
                <a:latin typeface="Tahoma"/>
              </a:rPr>
              <a:t>Стадии развития алкоголизм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755640" y="2276640"/>
          <a:ext cx="7464600" cy="4065480"/>
        </p:xfrm>
        <a:graphic>
          <a:graphicData uri="http://schemas.openxmlformats.org/drawingml/2006/table">
            <a:tbl>
              <a:tblPr/>
              <a:tblGrid>
                <a:gridCol w="3732120"/>
                <a:gridCol w="3732480"/>
              </a:tblGrid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ачальная (доалкогольна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еловек начинает употреблять спиртные напитки чаще обычного, но стойкая тяга к алкоголю у него еще не закрепилас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9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грожающая (порогова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еловек уже достаточно сильно пристрастился к спиртному, но у него есть еще возможность остановить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ритическа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потребление алкогольных напитков для человека становиться потребностью, которая может стать необратимо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Хроническая (полный алкоголизм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еспособность человека контролировать свои действия и поступки; частые и продолжительные запои; тяжелое опьянение с потерей сознания, а иногда и с остановкой дых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572" name=""/>
          <p:cNvSpPr/>
          <p:nvPr/>
        </p:nvSpPr>
        <p:spPr>
          <a:xfrm>
            <a:off x="7251480" y="0"/>
            <a:ext cx="18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слайд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                       </a:t>
            </a: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Последствия</a:t>
            </a:r>
            <a:br>
              <a:rPr sz="2300"/>
            </a:b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                         злоупотребления алкоголем</a:t>
            </a:r>
            <a:endParaRPr b="0" lang="en-US" sz="2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Для здоровья челове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нарушение нервной систем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нарушение деятельности сердечно – сосудистой систем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расстройство работы органов пищеваре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снижение сопротивляемости организма  многим инфекционным и простудным заболевания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Для социального положения челове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Снижение эффективности труда, утрата профессиональных навык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Утрата нравственных регуляторов поведения (совесть, долг, достоинство, ответственность, тактичность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Безответственные действия, приводящие к травмам и несчастным случаям в быту, на транспорте и производств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637236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                </a:t>
            </a: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               </a:t>
            </a: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слайд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авда о пив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ногие считаю, что употребление пива совсем не вредно, а даже полезно. Пиво не считают алкогольным напитком, и именно с него начинается алкоголизация молодё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4572000" y="18900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слайд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3c145"/>
                </a:solidFill>
                <a:latin typeface="Times New Roman"/>
              </a:rPr>
              <a:t>                                             </a:t>
            </a:r>
            <a:r>
              <a:rPr b="1" i="1" lang="en-US" sz="4400" spc="-1" strike="noStrike">
                <a:solidFill>
                  <a:srgbClr val="a3c145"/>
                </a:solidFill>
                <a:latin typeface="Times New Roman"/>
              </a:rPr>
              <a:t>Содержание водки и спирта в различных сортах пив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468360" y="1989000"/>
          <a:ext cx="8229600" cy="4321080"/>
        </p:xfrm>
        <a:graphic>
          <a:graphicData uri="http://schemas.openxmlformats.org/drawingml/2006/table">
            <a:tbl>
              <a:tblPr/>
              <a:tblGrid>
                <a:gridCol w="2809800"/>
                <a:gridCol w="1452600"/>
                <a:gridCol w="1468440"/>
                <a:gridCol w="2498760"/>
              </a:tblGrid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п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цент алког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ирта (м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ки (м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епан Раз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и медвед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клер (безалкогольно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енигсбе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ейнек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чкар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ропр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2" name=""/>
          <p:cNvSpPr/>
          <p:nvPr/>
        </p:nvSpPr>
        <p:spPr>
          <a:xfrm>
            <a:off x="4572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Профилактика алкого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слайд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10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Процент содержания алкоголя в различных сортах пив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71640" y="1628640"/>
            <a:ext cx="7848360" cy="5183280"/>
            <a:chOff x="971640" y="1628640"/>
            <a:chExt cx="7848360" cy="5183280"/>
          </a:xfrm>
        </p:grpSpPr>
        <p:pic>
          <p:nvPicPr>
            <p:cNvPr id="585" name="" descr=""/>
            <p:cNvPicPr/>
            <p:nvPr/>
          </p:nvPicPr>
          <p:blipFill>
            <a:blip r:embed="rId1"/>
            <a:stretch/>
          </p:blipFill>
          <p:spPr>
            <a:xfrm>
              <a:off x="971640" y="1628640"/>
              <a:ext cx="7848360" cy="51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3851280" y="6165720"/>
              <a:ext cx="68112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5508720" y="0"/>
            <a:ext cx="4562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слайд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250"/>
                            </p:stCondLst>
                            <p:childTnLst>
                              <p:par>
                                <p:cTn id="2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9383b3"/>
                </a:solidFill>
                <a:latin typeface="Times New Roman"/>
              </a:rPr>
              <a:t>             </a:t>
            </a:r>
            <a:r>
              <a:rPr b="0" lang="en-US" sz="15100" spc="-1" strike="noStrike">
                <a:solidFill>
                  <a:srgbClr val="9383b3"/>
                </a:solidFill>
                <a:latin typeface="Times New Roman"/>
              </a:rPr>
              <a:t>?</a:t>
            </a:r>
            <a:endParaRPr b="0" lang="en-US" sz="15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Задумайтесь, так ли безобидно пиво!?</a:t>
            </a:r>
            <a:br>
              <a:rPr sz="4000"/>
            </a:b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Стоит ли тратить свою жизнь на такое опасное удовольствие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0" y="11592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слайд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3300"/>
                </a:solidFill>
                <a:latin typeface="Arial"/>
              </a:rPr>
              <a:t>Внимание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Злоупотребление алкоголем сокращает жизнь на 10 – 15 л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Лучший способ профилактики алкоголизма – трезвый образ жизн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Продажа алкогольной продукции лицам моложе 18 лет преследуется по закон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51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аркомания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аркомания – болезнь, характеризующаяся непреодолимым влечением к наркотикам, вызывающая в малых дозах эйфорию, в больших – оглушение, наркотический сон, смерть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Стадии формирование наркотической завис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539640" y="2205000"/>
          <a:ext cx="8147160" cy="4097520"/>
        </p:xfrm>
        <a:graphic>
          <a:graphicData uri="http://schemas.openxmlformats.org/drawingml/2006/table">
            <a:tbl>
              <a:tblPr/>
              <a:tblGrid>
                <a:gridCol w="4073760"/>
                <a:gridCol w="4073400"/>
              </a:tblGrid>
              <a:tr h="97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Нач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Желание просто попробовать наркотик, стремление убежать от трудностей, потребность сделать жизнь более интересн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Осознанное привык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Планирование приема наркотиков, наркотики становятся необходимым атрибутом отдых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Формирование завис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Наркотики не приносят удовольствия, а употребляются для приведения организма в норму; возникают проблемы со здоровьем; теряется контроль над поведени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97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Завершение формирования завис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Постоянная потребность в наркотиках; большинство наркоманов, дошедших до этой стадии, погибают от передозиров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</a:tbl>
          </a:graphicData>
        </a:graphic>
      </p:graphicFrame>
      <p:sp>
        <p:nvSpPr>
          <p:cNvPr id="597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7:39:55Z</dcterms:created>
  <dc:creator>Ирина</dc:creator>
  <dc:description/>
  <dc:language>en-US</dc:language>
  <cp:lastModifiedBy>Ирина</cp:lastModifiedBy>
  <dcterms:modified xsi:type="dcterms:W3CDTF">2010-06-09T05:34:25Z</dcterms:modified>
  <cp:revision>23</cp:revision>
  <dc:subject/>
  <dc:title>ФАКТОРЫ,                      РАЗРУШАЮЩИЕ                                                      ЗДОРОВЬЕ ЧЕЛОВЕ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